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63095"/>
        <c:axId val="37871961"/>
      </c:barChart>
      <c:catAx>
        <c:axId val="90763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71961"/>
        <c:crosses val="autoZero"/>
        <c:auto val="1"/>
        <c:lblAlgn val="ctr"/>
        <c:lblOffset val="100"/>
        <c:noMultiLvlLbl val="0"/>
      </c:catAx>
      <c:valAx>
        <c:axId val="37871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63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481-89E6-4528-9C36-C0D3F963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156-49A1-466C-928B-D2901695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B54-6700-4D63-9FFF-8568D931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A7A-D63E-4207-8813-746D9030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FE1-E0D0-48EC-B0B4-74FA89AF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003-E494-44D1-8E36-856FF5A1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805A-5523-4FC0-9710-AB41A574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802-F479-4979-B8B3-1042B2F7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357-4294-44EF-9E8E-1DF77450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476-D295-4246-AEA3-0D7CAF79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5E7-0CEE-42F6-928D-DD26034D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483-0296-4FAC-83C3-34C8F3DC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C7AE6-5AA6-4ACE-A295-A1AB1F17EA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