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66962"/>
        <c:axId val="58424727"/>
      </c:barChart>
      <c:catAx>
        <c:axId val="11566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4727"/>
        <c:crosses val="autoZero"/>
        <c:auto val="1"/>
        <c:lblAlgn val="ctr"/>
        <c:lblOffset val="100"/>
        <c:noMultiLvlLbl val="0"/>
      </c:catAx>
      <c:valAx>
        <c:axId val="58424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6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3A6-D0FE-4432-BE22-010DA7E0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C60-22BC-4086-AA65-10DE588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926-EFBB-4C14-8468-4301F90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D3A-C078-4ECE-A6D3-B8A7C44B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25D-6022-4FC2-95FB-6E4746A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97D-D665-4F93-A332-901C47F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8E0-163B-468F-8464-730733C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536-9D2E-4460-9B59-77B36AF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E55-709A-4CF4-A6AC-C160CBF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071-15D9-4E77-8BC7-AB395B7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8E7-E1E5-48BE-AC44-415BE52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9A7-8EBC-40F4-98B3-00B58C6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4F329-CD4F-498D-A2FC-7785D4D17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