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60373"/>
        <c:axId val="38113600"/>
      </c:barChart>
      <c:catAx>
        <c:axId val="685603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113600"/>
        <c:crosses val="autoZero"/>
        <c:auto val="1"/>
        <c:lblAlgn val="ctr"/>
        <c:lblOffset val="100"/>
        <c:noMultiLvlLbl val="0"/>
      </c:catAx>
      <c:valAx>
        <c:axId val="381136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603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58F6-B854-416A-BFE4-6445A8DDE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035EA-4EDF-4444-BAAD-697257A66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4385-0096-4FD2-85A9-4EC0A3CD8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A3250-269C-4CCA-9194-370208A7C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CE78-F1D5-49E0-ADFE-91924460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AC1-82BE-4C7A-B4C0-356EA7954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4056-9F40-442E-88BA-02B4C62A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8AAA-A0C4-44D1-BE96-C1FB9167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243C-2635-4C20-AFDA-61AE82E51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F4A5-578F-4021-B982-FB5C6371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E5C-C024-42CD-B4AE-A68E148A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B0860-020A-46F3-8943-53886A7E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D30012-12FB-4AF5-9120-9A1E10AEC68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