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961665"/>
        <c:axId val="5075685"/>
      </c:barChart>
      <c:catAx>
        <c:axId val="54961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5685"/>
        <c:crosses val="autoZero"/>
        <c:auto val="1"/>
        <c:lblAlgn val="ctr"/>
        <c:lblOffset val="100"/>
        <c:noMultiLvlLbl val="0"/>
      </c:catAx>
      <c:valAx>
        <c:axId val="5075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961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441-CF40-4DC2-852C-F3E80BC2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0937-4F41-48B9-815E-9C382ECB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E53-6AB1-4ACD-A72B-9946FF7A9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9BF-1789-4699-8B85-DEFF9E7B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C56-7E09-477A-B731-C27AAFCE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27C-A926-4F5C-8296-4A4C2A1D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9F3-DEF1-4106-98B4-A14C29D0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70E-B959-475E-9F34-A0809452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FF7-C757-4D69-A33D-35221EF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D6B8-F713-43FC-AC7F-872FF564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861-2E49-4AD6-A7D6-E56818F4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D333-2FD0-433D-B298-FC54E5CA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178D1-D2DA-4438-B4CF-EAB72056A9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