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12474"/>
        <c:axId val="19256451"/>
      </c:barChart>
      <c:catAx>
        <c:axId val="89612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56451"/>
        <c:crosses val="autoZero"/>
        <c:auto val="1"/>
        <c:lblAlgn val="ctr"/>
        <c:lblOffset val="100"/>
        <c:noMultiLvlLbl val="0"/>
      </c:catAx>
      <c:valAx>
        <c:axId val="19256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12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D5D-267B-4B41-B5E8-DEF91CA2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A33-4808-449E-821B-80D9DFB0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ACE-38EA-47D6-8F0D-32D85B2D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DD6-23B8-4F85-9486-B435A439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9F1-CFFB-43F7-A36F-1B443A8A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69B-55D5-41BD-991E-974FDF25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D29-ED5B-4792-A478-5AE9C228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176-AFC8-41DD-B463-EF8E3929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89C-8D71-4E76-A4EC-89CD8B87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398-5E0E-4C28-9715-08872B5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9EF-CEA7-4C33-9DD5-6226D81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D3E-E2F0-4AF0-A832-B9CCAA3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2FEAF-7959-4431-8A7E-ECB8E89302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