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2132"/>
        <c:axId val="8823873"/>
      </c:barChart>
      <c:catAx>
        <c:axId val="70742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3873"/>
        <c:crosses val="autoZero"/>
        <c:auto val="1"/>
        <c:lblAlgn val="ctr"/>
        <c:lblOffset val="100"/>
        <c:noMultiLvlLbl val="0"/>
      </c:catAx>
      <c:valAx>
        <c:axId val="8823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2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53A-57AA-423D-A78A-D9023E81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C746-FC4C-4C69-9101-05DF0B5C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AB7-FCAD-4C77-B75C-B4A1744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2D7-362D-4A3B-B8A5-FC19CE11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472-E84D-4BA2-915D-7E4F566B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89A-C5F9-4E3E-9D40-A7F3C5DC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9F5-4C5B-41EC-85EC-DE4DF86B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BA3C-5433-4861-B48D-53C21433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5B5-DAD7-48D5-828F-38464917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C1C-3704-401F-86FB-821930E7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F1C-9052-4E6D-B6E4-F9B601A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CC1-47F3-46E2-B1A6-685EE815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9A61F-270C-4F67-9A94-A67A479CF4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