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698457"/>
        <c:axId val="54779870"/>
      </c:barChart>
      <c:catAx>
        <c:axId val="886984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779870"/>
        <c:crosses val="autoZero"/>
        <c:auto val="1"/>
        <c:lblAlgn val="ctr"/>
        <c:lblOffset val="100"/>
        <c:noMultiLvlLbl val="0"/>
      </c:catAx>
      <c:valAx>
        <c:axId val="547798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6984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EA32-00D9-4AEA-A1CB-A054D5F1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F42A-4CA1-4E5D-916A-73E7901C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E891-AF13-4A6D-9EDE-00E44F47C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1429-724B-4B50-99B5-1D6E1A82E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0C47-46DF-451B-B259-FF1BBBED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08E7-48A1-46E4-8684-534701FA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9343-DCB9-46FE-B513-CD411AC2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754D-3DB3-487D-BD9D-F9F510A1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54B6-2086-4F6F-A060-F49465C4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D0E5-849C-4DB4-88BB-F98B75D7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DF7A-50C5-4386-9FA8-6F7D3818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1E8B-45F3-4CF7-A8BE-20AEB5B9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1AAA4-997F-44C3-BE75-C32378596F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