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82918"/>
        <c:axId val="1965312"/>
      </c:barChart>
      <c:catAx>
        <c:axId val="15182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5312"/>
        <c:crosses val="autoZero"/>
        <c:auto val="1"/>
        <c:lblAlgn val="ctr"/>
        <c:lblOffset val="100"/>
        <c:noMultiLvlLbl val="0"/>
      </c:catAx>
      <c:valAx>
        <c:axId val="1965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82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875-4BC5-493A-8169-295435E7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3F3-74B2-47C0-BFB7-8F0D6E07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E31-18B0-4910-A16F-4AABCE3B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FAB-8682-4664-AFF0-3020747C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C65-C0B6-4E88-B722-2468171D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68C-9287-4F7A-A066-7874805F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7F8-8BEB-4E93-A09C-D5BD2103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B99-8695-453D-A752-2B6C866D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3C6-469F-4A6C-BBC4-7B0F8273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EEA-2054-47C4-88B3-2C740D11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0E1-F31C-4077-B5DA-8A8818C9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DC6-19D8-4750-B897-170777FD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11439-A745-439A-A5A2-C8BAA07625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