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79173"/>
        <c:axId val="36730357"/>
      </c:barChart>
      <c:catAx>
        <c:axId val="15079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30357"/>
        <c:crosses val="autoZero"/>
        <c:auto val="1"/>
        <c:lblAlgn val="ctr"/>
        <c:lblOffset val="100"/>
        <c:noMultiLvlLbl val="0"/>
      </c:catAx>
      <c:valAx>
        <c:axId val="36730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79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AF1-A37A-4C6B-A8EB-9667A7A3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499-5717-4FFA-8BA9-3B92CBEA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03A-49EB-4707-915F-45D1BD32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9FB-07C8-4082-8F91-253752E4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92F-399E-4D48-BB8E-7F2C21B0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421-0AC6-4441-8011-69FAE3EC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D03-5229-45F2-8A3C-7DFDAD81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0D4-495D-450F-8DA6-BBA6FEC6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0EF9-192F-4AC3-A5A6-BB6498CD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BE9-5030-4D18-B72E-502522D3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B6A-D063-48FB-9910-ECF6F6E3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72F-0A30-4104-A8B6-DBB97E58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FC904-577C-4B7C-BD55-F7493F6135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