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95307"/>
        <c:axId val="29775942"/>
      </c:barChart>
      <c:catAx>
        <c:axId val="37295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75942"/>
        <c:crosses val="autoZero"/>
        <c:auto val="1"/>
        <c:lblAlgn val="ctr"/>
        <c:lblOffset val="100"/>
        <c:noMultiLvlLbl val="0"/>
      </c:catAx>
      <c:valAx>
        <c:axId val="29775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5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F40-9DF8-4403-A4FA-BB0198AA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DDB-7515-40C6-AFA9-CD72FF08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A05-0073-4D9B-ACFC-8D50F47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41F-6C69-4595-8ECD-4448274F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D04-DB01-452B-9A9D-994C62D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4D9-A2EA-456A-B4D9-1B52641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B68-8F0B-49B6-84DF-45CBF74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256-2F47-448D-82A2-06EC792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D0C-90DF-4EEE-A907-631BA681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C3F-B3D3-4612-9A6D-2B450D9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C02-BFEE-46FD-AEBA-0A4CBEC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2D5-4E84-42BD-B30A-86F0FD45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BCCC8-C66F-4C81-8CD7-2EEE80BD1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