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07230"/>
        <c:axId val="90062819"/>
      </c:barChart>
      <c:catAx>
        <c:axId val="87607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62819"/>
        <c:crosses val="autoZero"/>
        <c:auto val="1"/>
        <c:lblAlgn val="ctr"/>
        <c:lblOffset val="100"/>
        <c:noMultiLvlLbl val="0"/>
      </c:catAx>
      <c:valAx>
        <c:axId val="90062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07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2FD-B4BF-477F-99A8-5CAEF673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6ED-76B0-4169-A2A7-9BD7ADFB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DA7-029B-4909-9B1D-7E7D3EA0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387-2FA6-4CF3-9036-03C42331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571-C61D-4AE2-9170-78CDDCF2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D21-D2A9-4C6F-B6CA-66E1D5E8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B66-5F3A-4E8F-A8DF-56FA2B45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450-C2DB-4538-B600-581BE65A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2CE-8E4A-40E2-B3AD-E7DF1507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4B5-877A-45AF-8582-EB3F64A8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749-64B2-4411-9C97-2AD6A43D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1EB-955B-4EF9-A912-997DD9FB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323B1-2A13-443F-8AD4-EA7D95522F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