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11251"/>
        <c:axId val="16468052"/>
      </c:barChart>
      <c:catAx>
        <c:axId val="99211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8052"/>
        <c:crosses val="autoZero"/>
        <c:auto val="1"/>
        <c:lblAlgn val="ctr"/>
        <c:lblOffset val="100"/>
        <c:noMultiLvlLbl val="0"/>
      </c:catAx>
      <c:valAx>
        <c:axId val="16468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11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1CF-5665-4E7A-B688-0EF767AC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0C5-CCBF-4B31-855E-752CE67F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8E8-B6FA-4102-9C40-96BD6353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848-14F1-483D-B06D-140280B7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99F-24F8-4DB7-9E4E-E856BA5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B98-9EE8-47D5-B9CE-50449E4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826-6D04-4E88-85A8-5B285252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00E-8137-417B-84D6-5C006CDE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F8A-947C-4672-B738-0D273898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7DB-5CB2-44DC-B3DF-5C914381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23D-8F5F-43F7-AAED-E0AB3E8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907-338F-4D5E-A236-0B38C57A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BE4DB-339E-4535-8AEB-829F34ED82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