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232734"/>
        <c:axId val="16746863"/>
      </c:barChart>
      <c:catAx>
        <c:axId val="182327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46863"/>
        <c:crosses val="autoZero"/>
        <c:auto val="1"/>
        <c:lblAlgn val="ctr"/>
        <c:lblOffset val="100"/>
        <c:noMultiLvlLbl val="0"/>
      </c:catAx>
      <c:valAx>
        <c:axId val="167468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327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998-D738-4D9A-A288-63D81423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985-9170-47F2-B15F-E00B9F00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2B7F-4E19-49B8-B391-1385737C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1D1-0A1C-48D4-B12D-2D8A667D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567A-E899-44C7-AF69-99911905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DB5B-C2F2-4315-A3B9-E4FC8BE3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803-4677-430D-A21E-FB5649A9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13C6-736C-4DF4-AC1F-07629095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9397-0323-4D1E-A775-D2EED303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3D24-84B1-4DE6-9B6C-8A6A8BF8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98B4-8E72-4622-92EA-B5FFCD10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B9B4-DDA2-4CA8-ABE2-F59B7582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5854E-9DE6-4E58-A1EE-2349A0526C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