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87478"/>
        <c:axId val="1530285"/>
      </c:barChart>
      <c:catAx>
        <c:axId val="348874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0285"/>
        <c:crosses val="autoZero"/>
        <c:auto val="1"/>
        <c:lblAlgn val="ctr"/>
        <c:lblOffset val="100"/>
        <c:noMultiLvlLbl val="0"/>
      </c:catAx>
      <c:valAx>
        <c:axId val="1530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874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C04-B9AD-4A2B-BD9C-740A0E6D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9CB-AD33-44EB-847F-429B5760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705-991D-40F5-9807-CFA68E9D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4A5-A40C-46CF-8BED-F720E0C7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99F-5CFD-4CA2-806F-D25F94DF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9B5-352C-420C-9F96-9233FF61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57F-5DD1-4C92-82D8-7018F3E5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CCF-D75C-454E-AAEA-294DB7C0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096-BCBD-48EB-BF95-49F89062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BCC-1471-497B-9051-3006A004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958-A747-474A-9468-159461B4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3BA-5EF5-4153-8BF7-86933315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62C59-DC58-404F-8C60-FFEF955B0C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