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55336"/>
        <c:axId val="57009194"/>
      </c:barChart>
      <c:catAx>
        <c:axId val="89955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9194"/>
        <c:crosses val="autoZero"/>
        <c:auto val="1"/>
        <c:lblAlgn val="ctr"/>
        <c:lblOffset val="100"/>
        <c:noMultiLvlLbl val="0"/>
      </c:catAx>
      <c:valAx>
        <c:axId val="57009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55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6BA-D9BA-4A86-A5FD-32944050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20A-3F2A-4ED7-B10C-BE296A7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05C-82E8-4373-9B2C-F474102D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71B-BC41-4AD6-9965-C169EFEA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B60-A7D6-4472-B6C0-DBDC6256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7B5-235A-45F0-9E25-8A5EDA0C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106-8408-4C01-9668-9CC45F6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440-6460-41CE-BF76-DC3C4795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13C-4FE4-45BB-AA19-212F0426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DC6-2D96-4B9A-A17E-2989D0D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0E9-1AC3-4783-BFB6-694FE545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A15-604D-43A8-BE19-1AFB7DAB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BCD56-5CD6-4B2C-9DA0-BD35AED7D1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