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75806"/>
        <c:axId val="92171602"/>
      </c:barChart>
      <c:catAx>
        <c:axId val="2037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1602"/>
        <c:crosses val="autoZero"/>
        <c:auto val="1"/>
        <c:lblAlgn val="ctr"/>
        <c:lblOffset val="100"/>
        <c:noMultiLvlLbl val="0"/>
      </c:catAx>
      <c:valAx>
        <c:axId val="92171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F05-84F9-4270-9A7C-5326D0F1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BED-2B26-4984-8F49-BAA7ED8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8FC-7F03-4015-8368-99E9DF8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EC9-8B56-4B06-B31C-23ECA7B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123-D993-4E16-905E-3BBD4DD9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535-B2C2-4197-BCD6-C32000F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FE1-8724-4FE9-BB14-FA60B06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43E-8B3E-4769-B49D-9DE5D957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E03-2622-43E9-A8D8-26BAE213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B44-A0DD-4E10-86AC-02E7E37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F40-8CFA-4584-85F3-0C05EF1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8AF-0A5B-455B-8A5B-DD66B9E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48056-7CA1-42E2-8192-3F365D754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