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199832"/>
        <c:axId val="15561986"/>
      </c:barChart>
      <c:catAx>
        <c:axId val="141998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61986"/>
        <c:crosses val="autoZero"/>
        <c:auto val="1"/>
        <c:lblAlgn val="ctr"/>
        <c:lblOffset val="100"/>
        <c:noMultiLvlLbl val="0"/>
      </c:catAx>
      <c:valAx>
        <c:axId val="155619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998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05AA-9789-4BE5-9E89-FE67747C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B827-1C7A-4562-BD07-A8FF2752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5604-68F6-41B7-A037-E53980A2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04FA-7029-4F50-8535-61102D90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E2C5-8575-4B21-8EB8-7231D3B2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D2F3-DBCC-48F1-A879-0066B3A2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3783-16B9-4CFA-86E9-2C9CEB24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D1D0-C689-4060-9266-0324D20E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D43F-6FC5-446B-BDDC-554E046A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3849-825C-4754-943F-CD0987BD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7F94-62E3-4FBF-9E15-EE27A096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A2DF-1B4A-40F1-99F2-A1DA2945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031F3-3C3C-4AD7-ADE1-83C1780DC1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