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87373"/>
        <c:axId val="70320684"/>
      </c:barChart>
      <c:catAx>
        <c:axId val="42587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20684"/>
        <c:crosses val="autoZero"/>
        <c:auto val="1"/>
        <c:lblAlgn val="ctr"/>
        <c:lblOffset val="100"/>
        <c:noMultiLvlLbl val="0"/>
      </c:catAx>
      <c:valAx>
        <c:axId val="70320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7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83F-2CAB-4DB2-A096-BE059AA2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549-ED5B-4FA9-AD08-6C4EAFD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610-7B91-4194-8111-8CA66566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617-516F-48AE-BF71-24CF1346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A47-85DA-4840-9D82-4239442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C6B-2A3E-4F6B-9542-0DE31E5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CE0-010C-45CA-9674-5D8F4A9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472-04B2-489D-B5FC-3B35AC94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99B-859A-46B8-8462-806A507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7F1-2BC0-4CDF-A486-A02F114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80C-53AF-4625-B37E-F94B083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C69-0181-4595-8BC2-89518C9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90DC-E7D7-4F6B-AFE8-89E38AE3D2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