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10048"/>
        <c:axId val="27157539"/>
      </c:barChart>
      <c:catAx>
        <c:axId val="86810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57539"/>
        <c:crosses val="autoZero"/>
        <c:auto val="1"/>
        <c:lblAlgn val="ctr"/>
        <c:lblOffset val="100"/>
        <c:noMultiLvlLbl val="0"/>
      </c:catAx>
      <c:valAx>
        <c:axId val="27157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0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DCE-39D4-4DDE-9B15-80AEC35C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CE8-A2C7-4A84-B59D-F2290D27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42A-8C6B-446A-80A8-1F4CED2E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733-5F15-44B7-B581-876223AA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5FB-BBF4-4A55-A961-BFA97495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72C-0C1E-44C0-9314-36C57355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BDB-35F9-42AF-9B8A-A20D365E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370-10B4-40E8-854D-30E68593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CD7-3E03-4E12-A503-7E7852EB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644-56E4-49BB-B1CD-8ED1F30F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570-1126-4122-A492-BC63E73F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F46-9CD5-46DD-87D1-6E10411B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5A75E-8516-4F62-8B3F-730217551B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