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97336"/>
        <c:axId val="27237003"/>
      </c:barChart>
      <c:catAx>
        <c:axId val="99497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37003"/>
        <c:crosses val="autoZero"/>
        <c:auto val="1"/>
        <c:lblAlgn val="ctr"/>
        <c:lblOffset val="100"/>
        <c:noMultiLvlLbl val="0"/>
      </c:catAx>
      <c:valAx>
        <c:axId val="272370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97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15B-194C-49F4-8869-F57CD416A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18D-2067-40A4-BD88-D29BC66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2345-F8F2-4659-889D-FF2B2890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C85-9A83-4B2B-BFD6-E803724D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56D-1A67-41AC-9FB1-9E09B55F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09A7-73A2-419C-A461-AA23D4B4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6284-91A8-4B1B-8941-7A4313A6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451-7184-499A-9D9F-1EDAEC57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C1DB-FA7E-43CD-85A7-CF3120AB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F09F-3656-40F1-99E5-D127AEFB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29D9-8356-4E62-93A7-C485AF0F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57E4-55BD-4976-9BAE-DAA03E0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53DCF2-10A0-4A70-9DB1-4B8A1EBF9E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