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37778"/>
        <c:axId val="74209074"/>
      </c:barChart>
      <c:catAx>
        <c:axId val="19837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9074"/>
        <c:crosses val="autoZero"/>
        <c:auto val="1"/>
        <c:lblAlgn val="ctr"/>
        <c:lblOffset val="100"/>
        <c:noMultiLvlLbl val="0"/>
      </c:catAx>
      <c:valAx>
        <c:axId val="74209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7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C04-A41E-4220-ADB3-A06772AF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163-54F0-4E64-BB0E-DD37844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25A-1EE2-4945-8DBB-C87F9FF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6AF-C68D-4480-B60D-B36D8F6E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A77-EB32-4CBD-8314-B2A85328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CA4-EE62-4A85-A507-CDA80FE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9C3-102C-491F-AB27-16D482E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468-DFA2-49E9-AA6F-41EA3B0B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38E-AB7D-4790-AAEC-7234A63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174-EAB7-48E2-B66B-0071001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5F4-424D-4323-9C10-5097453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544-2208-4AC6-A57F-C3EC0B7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E7FD-7DB6-4891-BA1C-E57BBD74D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