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38868"/>
        <c:axId val="4960874"/>
      </c:barChart>
      <c:catAx>
        <c:axId val="30838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0874"/>
        <c:crosses val="autoZero"/>
        <c:auto val="1"/>
        <c:lblAlgn val="ctr"/>
        <c:lblOffset val="100"/>
        <c:noMultiLvlLbl val="0"/>
      </c:catAx>
      <c:valAx>
        <c:axId val="4960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38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FE7-0BC9-4DE8-837B-45260870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9F2-9AEB-4924-98B5-7916311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FB4-82EA-411E-B37B-8EB33769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939-3A77-483D-9CCA-EA44910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471-0710-45F3-864B-9A72DB4D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412-7C17-45D9-A4F0-38DC6EB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F10-7B3E-44E8-8D28-6EE9ECA7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A69-9F88-4246-AC3F-4E43BEE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36E-6F41-464C-9382-9DC79FB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60A-5799-4789-9AB1-D6B8155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8AD-C3D6-4406-92FB-DFDEE42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D6C-9BFD-4249-84FB-83B0AA0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604C-1BCD-42AD-8E49-5F316AD0AB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