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003016"/>
        <c:axId val="65202554"/>
      </c:barChart>
      <c:catAx>
        <c:axId val="700030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202554"/>
        <c:crosses val="autoZero"/>
        <c:auto val="1"/>
        <c:lblAlgn val="ctr"/>
        <c:lblOffset val="100"/>
        <c:noMultiLvlLbl val="0"/>
      </c:catAx>
      <c:valAx>
        <c:axId val="652025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0030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120E-CE8A-4A48-9050-41B692BCA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6675-7025-4227-9CFA-3E36377B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F882-DBB6-466F-A30A-FAC50B64B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DADE-A3B7-4784-8221-7E1B247EF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6F0A-1668-4439-BD08-DE73DD0C6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3B65-C485-4284-ABA9-83573D0F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555D-3FA8-46FD-AA54-8B24CFFE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BE63-A38B-4190-84DB-0DBCF652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8555-67A7-46AE-8C4C-1D28802B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C177-F343-4AE0-AD95-1F892904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7BC2-10D5-4551-A727-3FD2B30D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3285-1FF5-46C2-8E8F-39A4F3EB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D5836E-9FFF-44B5-AB73-8489BB5148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