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903211"/>
        <c:axId val="10263489"/>
      </c:barChart>
      <c:catAx>
        <c:axId val="879032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63489"/>
        <c:crosses val="autoZero"/>
        <c:auto val="1"/>
        <c:lblAlgn val="ctr"/>
        <c:lblOffset val="100"/>
        <c:noMultiLvlLbl val="0"/>
      </c:catAx>
      <c:valAx>
        <c:axId val="10263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032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1518-EE83-461C-8E04-2C7EF1CD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DA10-FE82-44D5-9BAE-F8EA6A5E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CDD-B89D-44D6-A843-91310FC9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E6CB-AB91-4F8E-ACF2-A98382B5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5348-136A-428A-A2D8-A7471B2C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E521-F899-4648-AAB8-B8765A3D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3CB0-66A8-4509-8E18-CE525139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A831-ACB1-40C5-8053-F518127D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4E6B-030B-4BD3-AF65-B490CB21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773C-6B97-4629-B444-9C5C7EC4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F9E-EC52-4D58-BC91-60384CA6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DAAB-F99F-4915-BA07-47C5C8AF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4A179-9545-4ADB-A7EA-EB6A9768A0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