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42007"/>
        <c:axId val="16761161"/>
      </c:barChart>
      <c:catAx>
        <c:axId val="93042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61161"/>
        <c:crosses val="autoZero"/>
        <c:auto val="1"/>
        <c:lblAlgn val="ctr"/>
        <c:lblOffset val="100"/>
        <c:noMultiLvlLbl val="0"/>
      </c:catAx>
      <c:valAx>
        <c:axId val="16761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42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DC5-2156-41F7-8234-E648C86A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D89-4668-4632-96DE-975AD25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5A9-4C6A-4CA9-822A-524F1F30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E9E-F1FD-4C62-A098-3E701050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C47-2104-4E9B-9E74-E8195A72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381-BCD9-4ADF-AA6B-5257AC97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6F5-2167-4CBC-A6E7-2C2DD7D4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BA4-1741-4D9C-8B13-555BE72F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BB5-344E-4EAA-811F-F0DE46C9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DEA-5C73-4A6F-824D-CF3CF21B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981-6DBC-4135-9B22-19E467F6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43A-B60D-4D22-BEC5-1B0B10C0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31653-3C60-432C-A8BF-22B818BD3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