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15078"/>
        <c:axId val="68644800"/>
      </c:barChart>
      <c:catAx>
        <c:axId val="11815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44800"/>
        <c:crosses val="autoZero"/>
        <c:auto val="1"/>
        <c:lblAlgn val="ctr"/>
        <c:lblOffset val="100"/>
        <c:noMultiLvlLbl val="0"/>
      </c:catAx>
      <c:valAx>
        <c:axId val="68644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15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A94-1547-4E65-A1AD-A31EFA15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A65-08BA-4FCA-98D1-CD05CDC4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1B2-C879-4C37-AC86-0C78A62D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EF6-DCC1-40C1-BA71-74A6F943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611-1731-4E55-A0E5-F2AAA8AB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B75-F063-419B-9B63-A5A94016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935-FBA7-43CF-8038-96A7B6D6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A35-B500-4C4D-829F-475788BB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8FB-EB06-4B28-BB4C-ECD2A60E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1EB-6200-4EBB-BCB3-75F90D1E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E93-84B8-4D29-9178-A43569E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E57-9548-4DE1-8F0D-035C8155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F6B3B-28A9-4618-AD1A-4C7B7DFE7C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