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4719"/>
        <c:axId val="39689277"/>
      </c:barChart>
      <c:catAx>
        <c:axId val="64894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9277"/>
        <c:crosses val="autoZero"/>
        <c:auto val="1"/>
        <c:lblAlgn val="ctr"/>
        <c:lblOffset val="100"/>
        <c:noMultiLvlLbl val="0"/>
      </c:catAx>
      <c:valAx>
        <c:axId val="39689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4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F2C-8E7D-48FE-876C-01AC243F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A88-45DB-4A18-9E32-F51F2EA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35F-078B-4CFE-8CEC-FB813173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712-81FB-408C-AC33-353F5A33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109-392D-4FDF-9D82-99C17CC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0F4-BDD1-458D-8C19-B1ADC380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268-92B3-4EBB-BC06-403A6DB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394-1D31-4FC1-877D-B40A5297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02C-9DB0-4831-B16C-F64E0DB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DFA-1D38-4F25-9D58-26963624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4C1-F5A9-481D-A92C-5CDDC17E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40-F4A9-48A1-A352-93DEDCE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28F2-4B6E-429E-8EBC-6B3AD7AC3D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