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2367"/>
        <c:axId val="31583139"/>
      </c:barChart>
      <c:catAx>
        <c:axId val="1232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83139"/>
        <c:crosses val="autoZero"/>
        <c:auto val="1"/>
        <c:lblAlgn val="ctr"/>
        <c:lblOffset val="100"/>
        <c:noMultiLvlLbl val="0"/>
      </c:catAx>
      <c:valAx>
        <c:axId val="31583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A8A-C0DC-4A42-9031-E920F56E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B6D-BAE3-4894-A476-6BADF5C1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813-AC21-4220-9051-109491D2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257-5171-4388-92F8-53DC822B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6E3-B314-41D6-B6FC-7A68C2DA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DD7-AC5E-4F1E-AA9B-DC4D9B65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55A-C2DF-4F6C-AB05-6A65A510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2FF-CAD2-426C-81B3-B0D5C6A5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CF7-E322-4392-AFC6-D2EC6DBC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A72-DEBF-4BE7-A730-B3F4E15A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8BE-EA54-439A-BF63-8A548C67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5B3-1E9B-4F47-8348-4231DB4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E619F-C609-4698-A690-600622A77C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