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88617"/>
        <c:axId val="97014731"/>
      </c:barChart>
      <c:catAx>
        <c:axId val="11588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14731"/>
        <c:crosses val="autoZero"/>
        <c:auto val="1"/>
        <c:lblAlgn val="ctr"/>
        <c:lblOffset val="100"/>
        <c:noMultiLvlLbl val="0"/>
      </c:catAx>
      <c:valAx>
        <c:axId val="97014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88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F8A-A3C7-4A07-AB22-E1D1EFD3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2E3-B30B-416D-8F3B-C45F52C3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DDC-718C-45F1-AD08-0F6B855F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560-8A0C-4381-AD81-6CE887E5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3A4-3F4E-4EEF-98B5-8FE6D95A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C64-9A14-47C8-8BA2-D2E1E1D8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DF1-0E29-4513-9808-C2F1DFA3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7C4-63D7-4931-96D5-ED28A101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7BE-BFB0-45B2-8F1B-F08250D3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23A-E48D-4205-A225-E70FCFFE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074-ED2D-47F8-A81B-02C6EADD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871-7A81-4589-8AF9-34060190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0A438-AEC4-4E16-BB24-D55AC03424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