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05841"/>
        <c:axId val="8568142"/>
      </c:barChart>
      <c:catAx>
        <c:axId val="63205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8142"/>
        <c:crosses val="autoZero"/>
        <c:auto val="1"/>
        <c:lblAlgn val="ctr"/>
        <c:lblOffset val="100"/>
        <c:noMultiLvlLbl val="0"/>
      </c:catAx>
      <c:valAx>
        <c:axId val="8568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5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88E-6A8A-439F-8695-76D93FAC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6DE-470E-4330-BC0B-15AB1074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6FA-DECD-4AC3-80D8-C1A00518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9F6-6778-4278-B871-586B3A1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721-3023-4D47-AC05-EA1E8B1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A7E-4467-4BC3-8A39-FA2ACFC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B58-7843-49C4-BEFC-BD22B21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376-1A84-4ABA-A690-0A09B05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A8F-0508-4E88-A541-88E72F1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F61-6D45-46F8-BD39-8597266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705-9BA1-47ED-9422-E1059BF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E77-8D6A-4DB6-9077-442571E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015BB-023E-4558-B6FE-7D798C73F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