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86735"/>
        <c:axId val="9807444"/>
      </c:barChart>
      <c:catAx>
        <c:axId val="61786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7444"/>
        <c:crosses val="autoZero"/>
        <c:auto val="1"/>
        <c:lblAlgn val="ctr"/>
        <c:lblOffset val="100"/>
        <c:noMultiLvlLbl val="0"/>
      </c:catAx>
      <c:valAx>
        <c:axId val="9807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86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84F-75D4-428D-85F9-F15D75E7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1DD-446B-4B36-82A4-9B196FAD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7B1-9105-41C1-820F-3AAED6A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ECB-FBDC-4FDF-9CB9-C352FF5F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028-56C3-4D28-9C3C-17FC308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F41-4C54-459D-9D54-C68D51D2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0CB-D2C4-49F3-9ED1-B2CAA340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144-EAE7-4515-A626-F4F6EC93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E80-32E1-4822-99C4-E43A04C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847-E929-4C5B-8E56-BE546BCD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2B7-D2BF-44CE-8717-ABC188C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D7D-08B6-4E10-BCE6-68CECBC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E3D9-1EEE-4401-AC0E-88F060E95D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