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85804"/>
        <c:axId val="63234179"/>
      </c:barChart>
      <c:catAx>
        <c:axId val="6585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34179"/>
        <c:crosses val="autoZero"/>
        <c:auto val="1"/>
        <c:lblAlgn val="ctr"/>
        <c:lblOffset val="100"/>
        <c:noMultiLvlLbl val="0"/>
      </c:catAx>
      <c:valAx>
        <c:axId val="63234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5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34B-32BC-429A-952B-66859157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56D-D8D9-4A34-93FB-EE38DF15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374A-8430-4867-A366-6D289CC6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FBF-DF81-4B73-A627-64E8844C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A396-DBD0-48C0-8F35-BE6EB6F3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DE05-D9B9-4F2D-AA8A-4EEA2B7C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2E1-CA18-4517-A25A-30BEB6F3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E4F-81CC-4B99-AD11-115F7ACC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AB8-DD9A-47BA-A104-0DB799E2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6304-E9A4-4532-B243-953299C8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871-E959-43A0-A0D6-5ED7D5E0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8861-BFB1-423D-A28B-E0261F56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2D9A8-8EBA-4A6C-9B15-54E99408F3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