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9473"/>
        <c:axId val="72078603"/>
      </c:barChart>
      <c:catAx>
        <c:axId val="6569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78603"/>
        <c:crosses val="autoZero"/>
        <c:auto val="1"/>
        <c:lblAlgn val="ctr"/>
        <c:lblOffset val="100"/>
        <c:noMultiLvlLbl val="0"/>
      </c:catAx>
      <c:valAx>
        <c:axId val="72078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9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35D-33A4-4452-8240-1BAA6237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A39-8371-46E3-872B-F4F1CCF1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9DE-FCA4-4A80-9505-024BD8FB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A2D-6EA9-4043-871B-54FA9D63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BB9-BB92-4BAC-91B9-EEC99BD1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46F-46F5-4977-A31E-9BE7470C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44D-2BA0-4DB3-9CD4-CFF48C79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717-6E41-47EB-87AF-7EFCEAD3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AEF-3FEA-4F7D-A09E-A440C256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C68-EBF8-49BF-B318-BAA5334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43C-6695-4A0D-B897-18CA851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33C-AC31-49A2-BBED-C3C6E3D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A9C2D-782E-4F81-866E-C70ED0FE8B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