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96209"/>
        <c:axId val="53222324"/>
      </c:barChart>
      <c:catAx>
        <c:axId val="25296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2324"/>
        <c:crosses val="autoZero"/>
        <c:auto val="1"/>
        <c:lblAlgn val="ctr"/>
        <c:lblOffset val="100"/>
        <c:noMultiLvlLbl val="0"/>
      </c:catAx>
      <c:valAx>
        <c:axId val="53222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96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3D0-F375-4FDA-8674-A6394B6C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6B6-2D96-47D8-B751-8D7AAA1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F08-0B02-401C-8AFF-14E31E0F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F7E-7D47-41EF-A0AB-214990E7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919-E331-400F-BB7F-C8A3A63A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DDF-E7AD-484B-814B-CC0B3F2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9EE-D54B-44C7-BBD1-AB4ADA5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CEF-9317-4C39-A587-586ACAE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AC8-BDFC-4F85-918B-7A0C9A4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794-D688-423A-BE24-7AFA14F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06A-B1BA-4B3F-972C-F994F30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514-E9C3-4C9D-9289-7D00AC3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34998-7CDB-4702-85F2-A597BCD53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