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52207"/>
        <c:axId val="80032206"/>
      </c:barChart>
      <c:catAx>
        <c:axId val="42052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32206"/>
        <c:crosses val="autoZero"/>
        <c:auto val="1"/>
        <c:lblAlgn val="ctr"/>
        <c:lblOffset val="100"/>
        <c:noMultiLvlLbl val="0"/>
      </c:catAx>
      <c:valAx>
        <c:axId val="8003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52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3E9-FE23-413D-9624-FD8B6E42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483-E418-44BE-AE51-F4C36C5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EED-F2E9-45CE-9DC5-C04734B9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E5C-30AA-47C1-AABB-560C9ECC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0E2-CD47-4DE3-B084-96E6F0BC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AA0-2A3D-4F2B-AE09-80457C0C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BDE-7054-47BC-B3A0-F302F1ED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6292-8297-4F26-8577-BEE3849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80E-E423-45DC-8E79-C459CA6E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BF7-F5B1-4BAE-A38D-F9FED3D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CD1-9392-405D-BDEF-4F0FE8D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FCD-5D16-4ADA-9C31-B4666E3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1B13C-11A2-48B7-B190-DA3D653EE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