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316698"/>
        <c:axId val="65918311"/>
      </c:barChart>
      <c:catAx>
        <c:axId val="633166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18311"/>
        <c:crosses val="autoZero"/>
        <c:auto val="1"/>
        <c:lblAlgn val="ctr"/>
        <c:lblOffset val="100"/>
        <c:noMultiLvlLbl val="0"/>
      </c:catAx>
      <c:valAx>
        <c:axId val="659183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166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6E4B-CFD5-43EA-A919-609EAC02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55DC-A0EC-40B4-9A7D-A33AB804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7F65-AE75-491A-8B08-8AA18FFC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94A7-DE95-45BD-9DB7-30C8F075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CDBF-947F-4F0D-9844-832D803F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E665-B9E7-40AF-8F64-33440C13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148D-83F7-4040-B0D6-F6069D4E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64D6-F2B4-40D8-9A30-E37779B4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3CF8-5A43-4C97-AAE3-D4CAF181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C038-2729-4485-9AC4-0DC158B5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B9F5-AC09-4D48-8958-FF5E1386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6553-B6AF-41E6-8B9A-AF15B427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B0C50-4A0C-4ECC-8126-3C1BD5B1D6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