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22618"/>
        <c:axId val="2445130"/>
      </c:barChart>
      <c:catAx>
        <c:axId val="58022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5130"/>
        <c:crosses val="autoZero"/>
        <c:auto val="1"/>
        <c:lblAlgn val="ctr"/>
        <c:lblOffset val="100"/>
        <c:noMultiLvlLbl val="0"/>
      </c:catAx>
      <c:valAx>
        <c:axId val="2445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22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289-FFBE-4D6D-A275-00AFFFF4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7A9-C20D-4248-9E97-211FE220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418-0170-4BEF-91CE-D6266D27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7CD-B003-467B-86F8-50E2C805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BA9-2DB9-4BAC-B5FD-B2879982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CC3-DAC7-4FC6-B741-F2A1012A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A33-3182-41A2-9A63-D148A83C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6F3-2639-4EFE-A85F-E76E48B7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48B0-1751-4EA7-9480-4467972A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3DB-6A6D-4EF4-9BCA-387F420A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450-8A55-4192-9149-5B3DFAFE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F43-582D-4B99-AA9C-A50CFFE8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6E18F-C7AC-4B28-AEE2-D766A2BC8D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