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1834"/>
        <c:axId val="95951441"/>
      </c:barChart>
      <c:catAx>
        <c:axId val="17811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1441"/>
        <c:crosses val="autoZero"/>
        <c:auto val="1"/>
        <c:lblAlgn val="ctr"/>
        <c:lblOffset val="100"/>
        <c:noMultiLvlLbl val="0"/>
      </c:catAx>
      <c:valAx>
        <c:axId val="95951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1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044-27CF-43D8-8814-AF085DD6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990-ECFB-400E-BAC3-988A6B5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254-A5D2-4408-A35E-6972BF87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C70-1994-478B-B6CE-625DE0F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C48-FCCA-42C1-9589-CD8B758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C9A-0F48-42B2-8F29-48322B3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BF6-8D9D-4A67-928F-2BC0BCD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D6B-C862-4755-83DD-634FDF66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1B0-F842-4496-87BB-56C62A0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D7B-10B0-4478-96BB-818E6BA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8DD-4551-4D26-B297-BD6415E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9AF-DB56-4AA2-8C12-C382B52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078E1-81AD-45DF-9BE7-B10C98632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