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38132"/>
        <c:axId val="75465917"/>
      </c:barChart>
      <c:catAx>
        <c:axId val="75038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65917"/>
        <c:crosses val="autoZero"/>
        <c:auto val="1"/>
        <c:lblAlgn val="ctr"/>
        <c:lblOffset val="100"/>
        <c:noMultiLvlLbl val="0"/>
      </c:catAx>
      <c:valAx>
        <c:axId val="75465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38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164-0298-4EFE-ACF6-A58363F2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80B-8A4E-40A5-AA4E-6055E08C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9E0-CFD7-4D39-8DCF-8C3CED27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9FA-A532-4780-BAEB-07F96BD1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AE4-17B1-4079-96BA-42906C91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864-C693-4B82-A519-20AFC9EE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DEC-0808-485D-84EC-D4748C1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333-F101-4F02-95A9-1995847F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E8F-2CD6-4749-8FBF-03DC2EE2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C6E-4719-4F41-A0C5-898A5F7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FF9-D0DE-4E13-98A9-9EB1E399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592-5903-4D10-A9CF-436A39BB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CC887-F21D-43EA-8CD8-8FF4D016B1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