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20168"/>
        <c:axId val="48817363"/>
      </c:barChart>
      <c:catAx>
        <c:axId val="89320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17363"/>
        <c:crosses val="autoZero"/>
        <c:auto val="1"/>
        <c:lblAlgn val="ctr"/>
        <c:lblOffset val="100"/>
        <c:noMultiLvlLbl val="0"/>
      </c:catAx>
      <c:valAx>
        <c:axId val="48817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20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873-4F3E-4C58-8318-CFCC9CBF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FC5-B3B6-49B4-93A7-35B2568D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DA6-FF6C-484E-8A93-73BF63EC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61A-8392-4087-B3D4-E1DEF094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01B-04A7-4D34-AE19-244D499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EB1-FF2E-41BF-962F-8E451538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3B1-25A7-4AD5-9044-8EC5E181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ED4-D946-430B-99CC-C7FC17D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037-6C0E-48D9-86A6-B353F4B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941-DE6A-443A-89A1-8D2F5563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DC5-A04D-4CE4-8DE1-D1B80312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965-F677-4F3C-8A9F-300DD6F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C32A6-6220-42D2-9971-342388FA0D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