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81447"/>
        <c:axId val="3886199"/>
      </c:barChart>
      <c:catAx>
        <c:axId val="74681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199"/>
        <c:crosses val="autoZero"/>
        <c:auto val="1"/>
        <c:lblAlgn val="ctr"/>
        <c:lblOffset val="100"/>
        <c:noMultiLvlLbl val="0"/>
      </c:catAx>
      <c:valAx>
        <c:axId val="3886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81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095-77F2-41BD-B921-0174643E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60E-87F0-4C54-B7BF-1C06E463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F53-646A-47D6-9DDE-4DD26678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2F9-789F-4D25-BE70-6C1E51C9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421-F01A-498F-8108-C5EAEAA7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08D-0D51-4623-9296-AF9F7CC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54A-DCB3-426A-9253-EFF4647F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5A9-C59B-48D5-B751-9EDFD7C9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7E9-2191-4C19-9EDD-CBB4D9B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4C5-E035-4BDD-93EF-85C654A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8BF-4C8D-4322-B641-39F072C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BF5-C49A-4FDA-88B9-18D040B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C0176-7C3B-4173-AF1F-F00287FAF3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