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98274"/>
        <c:axId val="7721523"/>
      </c:barChart>
      <c:catAx>
        <c:axId val="48298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1523"/>
        <c:crosses val="autoZero"/>
        <c:auto val="1"/>
        <c:lblAlgn val="ctr"/>
        <c:lblOffset val="100"/>
        <c:noMultiLvlLbl val="0"/>
      </c:catAx>
      <c:valAx>
        <c:axId val="7721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98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B92-3D2F-45D3-BAC8-50384F8A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1E4-0C64-45A0-B10F-D0C84246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1D1-E6A9-40FC-8A03-C587B9DF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704-2C31-4D45-A372-6D66BC3A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149-DE9B-4513-90C8-91D676A0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59B-F183-4519-9DF2-A72EED8A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026-E036-4E72-A9C2-534BC276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896-6777-453A-9BB9-9CA97634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C93-0161-400A-84E0-9ACA6FBA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BE8-858A-4FFD-95CE-51F20FA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CEB-BB18-413A-8A9A-BA7D27B2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BB5-BACE-4432-AE64-8733706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2C694-0057-45FA-B974-70831B9410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